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55F2C-014B-4B56-9E57-1AA75C772F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B88B4-9B1A-4281-92DA-F645EE6AE4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1A26B-38F8-49A5-9B93-7D1851CDAF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BA4AD-E9BF-40FE-8659-CA65CBF350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E7D1F9-FA02-4C22-9F7C-12A5CA5DFA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5EC9E1-9DFB-46F6-B0D7-6548F4272A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85B8A3-926D-4A3C-873D-1542D387E6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E1606B-EB10-483B-92C9-A8419E196C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CF1C26-479A-42C5-AE6A-8E98DAB38C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F0CFD8-76A3-465B-A486-4C97189D50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681BB-6315-4BE6-BF92-60540C492A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E5F11-EDC7-4086-B175-F0C59E94A7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ED6CA-D7CB-4F24-9EF3-9B03A5E5BA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1A8B2-45AC-48DC-A66B-1D24D80658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0E368-2DB4-485F-A7C0-76FAD20BB3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5D2E02-1BA5-4A1E-B5AE-853B943451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8300CA-3465-49EB-8C57-C4DC66D417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84AA6-8C1C-44F4-9476-27D8133CE0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749F1-4B73-493E-B6DB-13656CA3D4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F6D5E-14AA-4C7C-B562-D44713717A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5788D-F5BA-4BA7-9C8D-14022CB431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E183B-F2E2-4C0B-B4CC-CBFBF6739B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08763-2BF0-4BF3-B271-14ABBB2FDA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7B96E-4C11-4D43-9988-7C7C1400B9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39BF08D8-F7EF-4A96-8EFF-89CF9D8EE632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7A61F1AE-C312-4EFF-AD3C-015847AF84C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119560" y="225360"/>
            <a:ext cx="356724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4932360" y="474840"/>
            <a:ext cx="3565440" cy="5349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33ECCB52-50ED-480B-994A-09E6E2058AFE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628163C1-1F81-41CC-A6FE-D7507823E79A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6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(also: d = ln(Odds Ratio) x sqrt(3)/pi)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-27072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required to sample but 80% response rate will reduce sample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amer’s V extends Phi to larger 2-way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/R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powerandsamplesize.com/Calculator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 (http://www.statmethods.net/stats/power.htm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(See also MBESS in R (eta^2 CIs) and Geoff Cumming ESCI Excel programme for Cohen’s d CI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&lt;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17-07-03T09:02:26Z</dcterms:modified>
  <cp:revision>256</cp:revision>
  <dc:subject/>
  <dc:title>8: SAMPLE SIZE DETERMINATION</dc:title>
</cp:coreProperties>
</file>